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38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39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8642-2922-4DBB-A35A-93A1039535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ve a common understanding of 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an explain and apply RBM concepts to both programme and operations results frame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84E1-7A00-4FBD-BBB4-C84F030113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raphic show a “regular BoS approach. Actual time varies depending on the scope of the B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A06-6A2A-4442-A690-A61365F29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1377-C96E-489E-A002-7BE5A734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537F-C4DB-4643-8E02-008745FB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C329-86D8-49D4-97B3-613EA2C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9777-9BDF-45DA-A6C4-AF0A73A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64C9-2403-4AEE-ADB4-2F2C101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47D5-7C6A-4801-977B-27B37F54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17F8-918D-48B2-BB9D-28059591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071A-8A2B-4C37-95BD-A5FDB87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2825-8C1C-43BA-B49D-A5CB1D6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19F-002F-4FD6-85F5-87800357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DF3B-5998-4107-8B7B-E4317C21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F660-CF2D-4714-BE44-B65AD637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68FF-F4AB-4474-B766-28D9B386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CC09D-A4F2-4996-B1D3-8921A12C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F58D-856A-44AA-A65A-B554BAF7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B546-B059-4A54-9063-4234ECB4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2179-E378-428D-995D-5DF7CD60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EC93-5E60-42E7-81FC-564D8526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D6CF-C99A-44E7-9E93-E2CED1B3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EABD-1CFA-4050-B2A2-6C628E56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DD91-2A84-450F-B87E-57031CD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D323-C8E3-470F-B67D-1F1C3E0B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86B8-C3F8-42A6-9D7D-F71A6669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6E12-78E8-4C70-B417-7A72C36A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F33E-2AFF-4DE5-8B60-9335A28A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CF6C-6D16-44FD-840A-573B7E66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80AF-9435-437B-9CA7-7CAF6E22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B2FBC-B75E-424C-BFD0-6B408632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CF71-E359-4A89-8D2C-F74549D1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B4DE-4B4B-4013-99F0-AD8F1849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B38B-F6D9-48FB-B4E8-309BCC75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0206-7CF0-4D1E-BDC6-C67AC21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8B0D-E89F-4F41-BBD3-C9D4A3B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8E3E-163E-4D12-A021-74689673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9801-D371-446F-8BAB-51C884FB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61ED-76D0-4EA8-BF10-31F9E1BE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D5DD9-F3C7-4428-B27F-67B40020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7245-A688-4FEC-98F6-C9D72CF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A4950-A775-4B5A-93BF-D7824BDA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54554-ADFF-4867-9D1C-7104C36F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D400-5E27-4FF8-A05F-EA697B96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AE522-27CF-40F5-81D6-2A5FCFBF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C592-F836-4F5C-A54A-D2A33D2F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5022-63AF-4B23-B93C-2D6A769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1D46-7345-4740-AEEB-C910498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F268-CB02-4C21-B01E-B8FE8F59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9E93-F1A2-450B-81B5-3ADE43BD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CC9F-A036-4E94-9581-D0A8CC23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D2179-BEB1-4C7E-87BD-6A07E231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2CA0-69A3-491B-A04D-104EFDE2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F8A5-D7E1-4043-B20D-9D1AF8D1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D6C1-6A73-4318-88F7-652E503C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A35E6-B040-4D2E-B43D-BA49B635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50A6-C687-431F-8729-1246A1F1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FCF4-3228-493C-98E3-852FF639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71C80-D636-47B8-86C0-93A2EAE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7B693-1B30-4624-A938-A20E56E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6AA5-8D7D-4E8A-81EE-2B76E21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214E-3E55-4844-814C-F6C64845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7BDC-45F0-42FA-A29D-B6DCEBEE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8CDB1-2155-4810-9314-B7299C07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37A7-95A5-41A0-A38B-1D124073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0D0E-38A4-4C9C-ABE5-765B4B7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35914-DA6F-41B9-9A8B-7A3BC7E8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37C6-D966-476E-92A6-E33FCDFF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2A9FA-71DD-413B-806C-A8C57299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57A26-C233-453A-92B4-DE9DFD2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9D3F-EB1C-44AE-A43D-217C8F2B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69D3-2B85-4B4A-98E0-CD36F9F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0BA4-9882-4F36-8EA0-49A02F15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9CF8-CA30-48E1-8318-09A33E35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1BC4-5B36-43EB-9377-B2D81AB5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FBC8B-4752-4C68-8D69-BC19BAC4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264CA-2CF6-4F1E-BD0B-65923499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DF9D0-F83F-480C-A911-20A7A31C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7E3B1-3C53-47D4-A6BE-96A20AA9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29AE6-1156-4551-83BD-2EAEA8D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86DF-9604-4ABA-A824-3FF5236B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194E9-A64D-4B07-A1D4-0DDDE58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ED4D7-FCFC-4D5C-A163-AC40FDA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94DB1-3D8B-4F95-9B1D-BC06A9D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D5EC4-2307-4DF2-9257-B01EE2A8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764E9-8A2B-4846-A0BF-CF3A58DC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8CA2D-56AA-4387-8019-792CE178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DEB76-06CA-4EB0-B21E-2BA85B36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10669-DC5F-4DD8-B646-23C7A58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C33F6-F356-4BD8-AF00-27AD58AE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47B80-9357-4189-A1EE-9F4A493C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28376-98BC-4742-B457-E67C355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30022-A117-4C1A-BDC0-917B523C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7453C-92EB-465D-B475-A4FA249A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0299B-E8BA-4EF6-BE7C-F0209B7F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9AD4E-DE45-4A05-9FC9-E809044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60D9E-C761-47EC-ACE3-F7964D91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754E-338E-4E9C-89F8-52AE5E5E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025B0-A924-4908-BD95-97E8A476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D1C2B-B741-44C7-9A9D-9B118DA4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C0CDF-F846-47D7-94C6-42E15E3A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C952B-7498-4A79-A170-DB2243F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CFF27-2F6C-4CAA-91FA-D30C83ED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83887-5F02-4705-976C-59E559A8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30341-6002-4376-81E0-3CC6DEDA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875EC-19F9-4DD2-9BD1-B8999C6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62C29-2884-407E-8E0B-8D144C95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67570-1589-4883-88B8-78BF349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17EB4-A5F5-42F5-AFE1-EAE94FE1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7D9B2-F68F-4A13-9A4E-1ABF18A7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66670-9B56-4E17-AA70-C0A2B49E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08A4C-8805-4EFA-B51F-565882B5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7A2A8-99C8-4BE1-AA14-4F456B26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FC7EF-D702-42D0-8989-9F10EC8B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00050-62D1-4F3A-BDBC-5B6C3201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C1438-D69D-42CF-803E-56CC701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99F02-F97E-4B69-AB77-0A583DF6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5A4DD-26A9-4707-9C0F-342F935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32DA1-F166-46D8-B551-4181DB6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753D1-B6F1-4243-81F7-F225D980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2C9F3-DC55-4326-AA6F-8D29FA6D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9924-745E-4837-A73A-2BA0CC73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8FBF4-30B3-4313-BAB1-C90DD255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C5809-17E1-46B6-81E2-281D438E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8304C-400D-466B-B7AC-B7A23833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007B9-52C0-4435-8F73-2AED8D6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9BFD5-BB87-47A4-82D6-5F0DC33A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25981-11AA-4A05-B3AA-4D29FE6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4F481-2EB7-4EF6-AB7B-98FF00DA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ECA74-ECEE-4A9C-90EE-7908C39B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67D86-FA4D-441D-9901-ADEB5661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F36DA-E730-4FE8-9ADC-3DC2360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2B870-4863-4E97-B41D-6A0AF08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A66DB-E2D7-470F-AC9C-4D2E69DD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83711-8F7A-460F-A88F-FE07EE17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6A5-DCAF-4D88-9F36-7D249F6E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F3C-28DF-4952-9F6A-0F64F138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E85-D31B-460C-900C-F4CD4A1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D4A-C79F-4763-B459-B0F939DA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2E5-0178-4783-8BBF-5F7203F3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BB8-AC88-4DDD-AA73-AB713673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E91-278A-4952-87FE-2F9A7D8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C0E-54E4-42B0-9FAE-957956C0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DAC-4370-4DA2-8CD5-99E08DED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985-6438-4E57-B8E0-8CF3617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186-9E96-4C42-8A38-EB597A63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590-94DC-4BC1-9081-689882A1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7A18-A52E-4B58-B716-2A59DB42F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436-AB48-4D5B-8ADD-26E02C6BE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5910-CC55-4C5B-A22A-93DFA9469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5241-2921-4D26-99F0-5915C86C46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C2A-C642-46CF-90DF-994DE6CAFD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D560-E4D7-4327-9672-8A8F85627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7E8-27F9-4C21-9A52-83734AE0C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619-0183-41BD-B079-8CCB4CAF1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A2E-A2B4-4F35-9A83-A6A751D932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C93-40EC-4D39-8358-C721384FE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988-24F1-4A2A-BFB7-A700C48D3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AB64-B65B-4C0E-9315-0A74C1514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OCO new logo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5079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67840" y="3031920"/>
            <a:ext cx="87994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DG Business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B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27"/>
          <p:cNvSpPr/>
          <p:nvPr/>
        </p:nvSpPr>
        <p:spPr>
          <a:xfrm>
            <a:off x="1785960" y="5229360"/>
            <a:ext cx="5943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Advanced Business Operations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Kabul, Afghanistan November 201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7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3"/>
          <p:cNvSpPr/>
          <p:nvPr/>
        </p:nvSpPr>
        <p:spPr>
          <a:xfrm rot="5400000">
            <a:off x="3929400" y="3855240"/>
            <a:ext cx="1086120" cy="32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turing th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 work. Needs to be real commitment and leadership to get this done. worth considering getting external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urement people seem to prefer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ain their individual relationshi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taff turnover there is a regular need to re-explain and re-advocate for BO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acity development /Regular training should be provi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inforce the strategic management of programme and operations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rterly UN induction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Common Business Ops organised as a common staff development action (under the HR component of the BOS) is very much recomm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M&amp;E TWG should be enhanc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llow for better planning and monitoring (of programme as well as operational activiti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Lars Tushuizen</cp:lastModifiedBy>
  <cp:lastPrinted>2013-04-23T17:01:54Z</cp:lastPrinted>
  <dcterms:modified xsi:type="dcterms:W3CDTF">2014-11-20T16:47:31Z</dcterms:modified>
  <cp:revision>993</cp:revision>
  <dc:subject/>
  <dc:title>PowerPoint Presentation</dc:title>
</cp:coreProperties>
</file>